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105-48C6-4F3B-B275-85E6F27E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F20-47FA-4DC8-A82F-2C4312D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AB5-4358-48AF-8A11-B956DFE0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957-22B5-4C14-909C-FE6F22C2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620E-BE62-4ABB-92A4-30C87EAE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A553-4382-4F9E-B239-5A82983A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3312-6339-4DEC-84C4-DEFE314D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9C96-511E-42AA-BA45-DE12D44A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4A5A-0AF5-4AFA-879A-5586668A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C304-088D-4236-A8BF-83F62F87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0CA8-A332-4F17-9618-E1E895F1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EE7-8D50-457E-B85C-7162E1CA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CB0E-10AE-4162-B1A5-03D9D60D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A0F2-F284-42BE-BA6C-BC2FCD27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E7CE-E795-4D03-8BB0-85F0C4E2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DDE7-54FF-4AC1-8FDC-6F8B3311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E6B8-5C91-45F1-AB75-3CB3C616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B32-0BD4-44C0-A90A-8684CACB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D46-876C-4B7B-A102-5F772459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542-2438-4EDF-813A-E3A44A16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65E-F8AD-4DDE-BE09-C072BB2B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43B-1EEE-4535-8A11-AA52D613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255-240E-4B11-BDA3-2D540D21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BBF-F489-4CFC-A4C0-57ADC6DC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4E2A-CD53-4F56-B8BA-6A834D8BD3E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86D9-F161-4E9D-932C-249CF932667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              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38360" cy="3162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804000" y="476280"/>
            <a:ext cx="1920960" cy="2239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28954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Equip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se are the police equip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andcuff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an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andcuffs k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as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pper spr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56000" y="4292640"/>
            <a:ext cx="1224000" cy="6872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427640" y="3697200"/>
            <a:ext cx="1081080" cy="8114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771640" y="3141720"/>
            <a:ext cx="646200" cy="6746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140360" y="4797360"/>
            <a:ext cx="718920" cy="781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3492360" y="2600280"/>
            <a:ext cx="792360" cy="593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38120" y="1946160"/>
            <a:ext cx="8321760" cy="4010040"/>
          </a:xfrm>
          <a:custGeom>
            <a:avLst/>
            <a:gdLst/>
            <a:ahLst/>
            <a:rect l="l" t="t" r="r" b="b"/>
            <a:pathLst>
              <a:path w="23119" h="11139">
                <a:moveTo>
                  <a:pt x="1811" y="5879"/>
                </a:moveTo>
                <a:cubicBezTo>
                  <a:pt x="1811" y="6751"/>
                  <a:pt x="1766" y="7592"/>
                  <a:pt x="1761" y="8458"/>
                </a:cubicBezTo>
                <a:cubicBezTo>
                  <a:pt x="1759" y="8820"/>
                  <a:pt x="1710" y="9124"/>
                  <a:pt x="1662" y="9475"/>
                </a:cubicBezTo>
                <a:cubicBezTo>
                  <a:pt x="1629" y="9716"/>
                  <a:pt x="1592" y="9952"/>
                  <a:pt x="1563" y="10195"/>
                </a:cubicBezTo>
                <a:cubicBezTo>
                  <a:pt x="1552" y="10292"/>
                  <a:pt x="1520" y="10407"/>
                  <a:pt x="1513" y="10517"/>
                </a:cubicBezTo>
                <a:cubicBezTo>
                  <a:pt x="1466" y="11243"/>
                  <a:pt x="1432" y="11910"/>
                  <a:pt x="1339" y="12626"/>
                </a:cubicBezTo>
                <a:cubicBezTo>
                  <a:pt x="1323" y="12752"/>
                  <a:pt x="1306" y="12874"/>
                  <a:pt x="1290" y="12998"/>
                </a:cubicBezTo>
                <a:cubicBezTo>
                  <a:pt x="1275" y="13111"/>
                  <a:pt x="1277" y="13208"/>
                  <a:pt x="1265" y="13320"/>
                </a:cubicBezTo>
                <a:cubicBezTo>
                  <a:pt x="1238" y="13567"/>
                  <a:pt x="1208" y="13803"/>
                  <a:pt x="1215" y="14064"/>
                </a:cubicBezTo>
                <a:cubicBezTo>
                  <a:pt x="1221" y="14289"/>
                  <a:pt x="1203" y="14523"/>
                  <a:pt x="1265" y="14734"/>
                </a:cubicBezTo>
                <a:cubicBezTo>
                  <a:pt x="1277" y="14775"/>
                  <a:pt x="1300" y="14934"/>
                  <a:pt x="1315" y="14957"/>
                </a:cubicBezTo>
                <a:cubicBezTo>
                  <a:pt x="1347" y="15008"/>
                  <a:pt x="1393" y="15079"/>
                  <a:pt x="1414" y="15106"/>
                </a:cubicBezTo>
                <a:cubicBezTo>
                  <a:pt x="1435" y="15132"/>
                  <a:pt x="1506" y="15147"/>
                  <a:pt x="1538" y="15180"/>
                </a:cubicBezTo>
                <a:cubicBezTo>
                  <a:pt x="1614" y="15256"/>
                  <a:pt x="1853" y="15362"/>
                  <a:pt x="1960" y="15429"/>
                </a:cubicBezTo>
                <a:cubicBezTo>
                  <a:pt x="2004" y="15456"/>
                  <a:pt x="2058" y="15475"/>
                  <a:pt x="2108" y="15503"/>
                </a:cubicBezTo>
                <a:cubicBezTo>
                  <a:pt x="2157" y="15530"/>
                  <a:pt x="2223" y="15549"/>
                  <a:pt x="2282" y="15577"/>
                </a:cubicBezTo>
                <a:cubicBezTo>
                  <a:pt x="2307" y="15589"/>
                  <a:pt x="2386" y="15634"/>
                  <a:pt x="2431" y="15652"/>
                </a:cubicBezTo>
                <a:cubicBezTo>
                  <a:pt x="2520" y="15688"/>
                  <a:pt x="2588" y="15726"/>
                  <a:pt x="2679" y="15751"/>
                </a:cubicBezTo>
                <a:cubicBezTo>
                  <a:pt x="2755" y="15772"/>
                  <a:pt x="2802" y="15786"/>
                  <a:pt x="2877" y="15801"/>
                </a:cubicBezTo>
                <a:cubicBezTo>
                  <a:pt x="3261" y="15879"/>
                  <a:pt x="3671" y="15855"/>
                  <a:pt x="4068" y="15875"/>
                </a:cubicBezTo>
                <a:cubicBezTo>
                  <a:pt x="4443" y="15894"/>
                  <a:pt x="4792" y="15955"/>
                  <a:pt x="5159" y="15974"/>
                </a:cubicBezTo>
                <a:cubicBezTo>
                  <a:pt x="5910" y="16012"/>
                  <a:pt x="6671" y="15976"/>
                  <a:pt x="7392" y="15875"/>
                </a:cubicBezTo>
                <a:cubicBezTo>
                  <a:pt x="7451" y="15867"/>
                  <a:pt x="7565" y="15854"/>
                  <a:pt x="7590" y="15850"/>
                </a:cubicBezTo>
                <a:cubicBezTo>
                  <a:pt x="7533" y="15861"/>
                  <a:pt x="7523" y="15838"/>
                  <a:pt x="7466" y="15850"/>
                </a:cubicBezTo>
                <a:cubicBezTo>
                  <a:pt x="7385" y="15867"/>
                  <a:pt x="7254" y="15923"/>
                  <a:pt x="7243" y="15925"/>
                </a:cubicBezTo>
                <a:cubicBezTo>
                  <a:pt x="7279" y="15959"/>
                  <a:pt x="7273" y="15963"/>
                  <a:pt x="7193" y="15925"/>
                </a:cubicBezTo>
                <a:cubicBezTo>
                  <a:pt x="7243" y="15923"/>
                  <a:pt x="7267" y="15900"/>
                  <a:pt x="7317" y="15900"/>
                </a:cubicBezTo>
                <a:cubicBezTo>
                  <a:pt x="8249" y="15893"/>
                  <a:pt x="9322" y="16013"/>
                  <a:pt x="10195" y="15825"/>
                </a:cubicBezTo>
                <a:cubicBezTo>
                  <a:pt x="10308" y="15801"/>
                  <a:pt x="10483" y="15721"/>
                  <a:pt x="10592" y="15677"/>
                </a:cubicBezTo>
                <a:cubicBezTo>
                  <a:pt x="11523" y="15303"/>
                  <a:pt x="10336" y="15933"/>
                  <a:pt x="10542" y="14784"/>
                </a:cubicBezTo>
                <a:cubicBezTo>
                  <a:pt x="10562" y="14670"/>
                  <a:pt x="10844" y="14800"/>
                  <a:pt x="10840" y="14684"/>
                </a:cubicBezTo>
                <a:cubicBezTo>
                  <a:pt x="10832" y="14842"/>
                  <a:pt x="10749" y="15014"/>
                  <a:pt x="10765" y="15156"/>
                </a:cubicBezTo>
                <a:cubicBezTo>
                  <a:pt x="10794" y="15410"/>
                  <a:pt x="10865" y="15657"/>
                  <a:pt x="10964" y="15900"/>
                </a:cubicBezTo>
                <a:cubicBezTo>
                  <a:pt x="10996" y="15980"/>
                  <a:pt x="11089" y="16101"/>
                  <a:pt x="11137" y="16197"/>
                </a:cubicBezTo>
                <a:cubicBezTo>
                  <a:pt x="11168" y="16259"/>
                  <a:pt x="11198" y="16297"/>
                  <a:pt x="11212" y="16346"/>
                </a:cubicBezTo>
                <a:cubicBezTo>
                  <a:pt x="11218" y="16368"/>
                  <a:pt x="11284" y="16410"/>
                  <a:pt x="11286" y="16421"/>
                </a:cubicBezTo>
                <a:cubicBezTo>
                  <a:pt x="11305" y="16527"/>
                  <a:pt x="11202" y="16363"/>
                  <a:pt x="11212" y="16470"/>
                </a:cubicBezTo>
                <a:cubicBezTo>
                  <a:pt x="11195" y="16454"/>
                  <a:pt x="11179" y="16437"/>
                  <a:pt x="11162" y="16421"/>
                </a:cubicBezTo>
                <a:cubicBezTo>
                  <a:pt x="11471" y="16483"/>
                  <a:pt x="11641" y="16528"/>
                  <a:pt x="11956" y="16545"/>
                </a:cubicBezTo>
                <a:cubicBezTo>
                  <a:pt x="11997" y="16547"/>
                  <a:pt x="11989" y="16495"/>
                  <a:pt x="12030" y="16495"/>
                </a:cubicBezTo>
                <a:cubicBezTo>
                  <a:pt x="12604" y="16492"/>
                  <a:pt x="13288" y="16592"/>
                  <a:pt x="13841" y="16446"/>
                </a:cubicBezTo>
                <a:cubicBezTo>
                  <a:pt x="14006" y="16402"/>
                  <a:pt x="14115" y="16423"/>
                  <a:pt x="14213" y="16321"/>
                </a:cubicBezTo>
                <a:cubicBezTo>
                  <a:pt x="14255" y="16277"/>
                  <a:pt x="14284" y="16276"/>
                  <a:pt x="14312" y="16222"/>
                </a:cubicBezTo>
                <a:cubicBezTo>
                  <a:pt x="14377" y="16095"/>
                  <a:pt x="14319" y="15866"/>
                  <a:pt x="14337" y="15726"/>
                </a:cubicBezTo>
                <a:cubicBezTo>
                  <a:pt x="14372" y="15458"/>
                  <a:pt x="14293" y="15169"/>
                  <a:pt x="14263" y="14908"/>
                </a:cubicBezTo>
                <a:cubicBezTo>
                  <a:pt x="14254" y="14827"/>
                  <a:pt x="14221" y="14766"/>
                  <a:pt x="14213" y="14684"/>
                </a:cubicBezTo>
                <a:cubicBezTo>
                  <a:pt x="14184" y="14372"/>
                  <a:pt x="14189" y="14154"/>
                  <a:pt x="14288" y="13866"/>
                </a:cubicBezTo>
                <a:cubicBezTo>
                  <a:pt x="14350" y="13687"/>
                  <a:pt x="14388" y="13499"/>
                  <a:pt x="14560" y="13395"/>
                </a:cubicBezTo>
                <a:cubicBezTo>
                  <a:pt x="14814" y="13241"/>
                  <a:pt x="15109" y="13368"/>
                  <a:pt x="15354" y="13271"/>
                </a:cubicBezTo>
                <a:cubicBezTo>
                  <a:pt x="15508" y="13210"/>
                  <a:pt x="15603" y="13165"/>
                  <a:pt x="15751" y="13072"/>
                </a:cubicBezTo>
                <a:cubicBezTo>
                  <a:pt x="16110" y="12845"/>
                  <a:pt x="16194" y="12615"/>
                  <a:pt x="16222" y="12229"/>
                </a:cubicBezTo>
                <a:cubicBezTo>
                  <a:pt x="16230" y="12125"/>
                  <a:pt x="16163" y="12009"/>
                  <a:pt x="16148" y="11906"/>
                </a:cubicBezTo>
                <a:cubicBezTo>
                  <a:pt x="16123" y="11730"/>
                  <a:pt x="16081" y="11606"/>
                  <a:pt x="16024" y="11435"/>
                </a:cubicBezTo>
                <a:cubicBezTo>
                  <a:pt x="15978" y="11298"/>
                  <a:pt x="15898" y="11172"/>
                  <a:pt x="15850" y="11038"/>
                </a:cubicBezTo>
                <a:cubicBezTo>
                  <a:pt x="15804" y="10909"/>
                  <a:pt x="15747" y="10815"/>
                  <a:pt x="15701" y="10691"/>
                </a:cubicBezTo>
                <a:cubicBezTo>
                  <a:pt x="15664" y="10592"/>
                  <a:pt x="15638" y="10485"/>
                  <a:pt x="15602" y="10393"/>
                </a:cubicBezTo>
                <a:cubicBezTo>
                  <a:pt x="15558" y="10282"/>
                  <a:pt x="15521" y="10180"/>
                  <a:pt x="15478" y="10071"/>
                </a:cubicBezTo>
                <a:cubicBezTo>
                  <a:pt x="15423" y="9932"/>
                  <a:pt x="15377" y="9772"/>
                  <a:pt x="15304" y="9649"/>
                </a:cubicBezTo>
                <a:cubicBezTo>
                  <a:pt x="15244" y="9548"/>
                  <a:pt x="15244" y="9421"/>
                  <a:pt x="15156" y="9351"/>
                </a:cubicBezTo>
                <a:cubicBezTo>
                  <a:pt x="15116" y="9319"/>
                  <a:pt x="15087" y="9319"/>
                  <a:pt x="15056" y="9302"/>
                </a:cubicBezTo>
                <a:cubicBezTo>
                  <a:pt x="14979" y="9258"/>
                  <a:pt x="14886" y="9276"/>
                  <a:pt x="14808" y="9252"/>
                </a:cubicBezTo>
                <a:cubicBezTo>
                  <a:pt x="14246" y="9081"/>
                  <a:pt x="13661" y="9340"/>
                  <a:pt x="13122" y="9004"/>
                </a:cubicBezTo>
                <a:cubicBezTo>
                  <a:pt x="13068" y="8970"/>
                  <a:pt x="12846" y="8894"/>
                  <a:pt x="12824" y="8855"/>
                </a:cubicBezTo>
                <a:cubicBezTo>
                  <a:pt x="12780" y="8777"/>
                  <a:pt x="12811" y="8649"/>
                  <a:pt x="12799" y="8558"/>
                </a:cubicBezTo>
                <a:cubicBezTo>
                  <a:pt x="12768" y="8322"/>
                  <a:pt x="12829" y="8243"/>
                  <a:pt x="12998" y="8111"/>
                </a:cubicBezTo>
                <a:cubicBezTo>
                  <a:pt x="13124" y="8012"/>
                  <a:pt x="13295" y="8064"/>
                  <a:pt x="13444" y="8037"/>
                </a:cubicBezTo>
                <a:cubicBezTo>
                  <a:pt x="14001" y="7937"/>
                  <a:pt x="14646" y="8075"/>
                  <a:pt x="15205" y="8086"/>
                </a:cubicBezTo>
                <a:cubicBezTo>
                  <a:pt x="15502" y="8092"/>
                  <a:pt x="15801" y="8086"/>
                  <a:pt x="16098" y="8086"/>
                </a:cubicBezTo>
                <a:cubicBezTo>
                  <a:pt x="16176" y="8026"/>
                  <a:pt x="16065" y="8095"/>
                  <a:pt x="16073" y="8086"/>
                </a:cubicBezTo>
                <a:cubicBezTo>
                  <a:pt x="16090" y="8067"/>
                  <a:pt x="15937" y="8088"/>
                  <a:pt x="16123" y="7987"/>
                </a:cubicBezTo>
                <a:cubicBezTo>
                  <a:pt x="16185" y="7953"/>
                  <a:pt x="16271" y="7857"/>
                  <a:pt x="16321" y="7838"/>
                </a:cubicBezTo>
                <a:cubicBezTo>
                  <a:pt x="16482" y="7778"/>
                  <a:pt x="16666" y="7760"/>
                  <a:pt x="16842" y="7739"/>
                </a:cubicBezTo>
                <a:cubicBezTo>
                  <a:pt x="18433" y="7546"/>
                  <a:pt x="20219" y="7716"/>
                  <a:pt x="21803" y="7838"/>
                </a:cubicBezTo>
                <a:cubicBezTo>
                  <a:pt x="21987" y="7852"/>
                  <a:pt x="22286" y="7812"/>
                  <a:pt x="22448" y="7888"/>
                </a:cubicBezTo>
                <a:cubicBezTo>
                  <a:pt x="22517" y="7920"/>
                  <a:pt x="22227" y="7987"/>
                  <a:pt x="22299" y="8012"/>
                </a:cubicBezTo>
                <a:cubicBezTo>
                  <a:pt x="22374" y="8015"/>
                  <a:pt x="22373" y="8012"/>
                  <a:pt x="22448" y="8012"/>
                </a:cubicBezTo>
                <a:cubicBezTo>
                  <a:pt x="22744" y="8014"/>
                  <a:pt x="23143" y="8088"/>
                  <a:pt x="23391" y="8012"/>
                </a:cubicBezTo>
                <a:cubicBezTo>
                  <a:pt x="23527" y="7970"/>
                  <a:pt x="23612" y="7897"/>
                  <a:pt x="23738" y="7838"/>
                </a:cubicBezTo>
                <a:cubicBezTo>
                  <a:pt x="24145" y="7648"/>
                  <a:pt x="24390" y="7376"/>
                  <a:pt x="24333" y="6921"/>
                </a:cubicBezTo>
                <a:cubicBezTo>
                  <a:pt x="24307" y="6715"/>
                  <a:pt x="24120" y="6330"/>
                  <a:pt x="23961" y="6201"/>
                </a:cubicBezTo>
                <a:cubicBezTo>
                  <a:pt x="23860" y="6119"/>
                  <a:pt x="23651" y="6124"/>
                  <a:pt x="23540" y="6052"/>
                </a:cubicBezTo>
                <a:cubicBezTo>
                  <a:pt x="23482" y="6015"/>
                  <a:pt x="23408" y="5964"/>
                  <a:pt x="23341" y="5928"/>
                </a:cubicBezTo>
                <a:cubicBezTo>
                  <a:pt x="23096" y="5796"/>
                  <a:pt x="22871" y="5657"/>
                  <a:pt x="22597" y="5581"/>
                </a:cubicBezTo>
                <a:cubicBezTo>
                  <a:pt x="22050" y="5429"/>
                  <a:pt x="21476" y="5504"/>
                  <a:pt x="20910" y="5507"/>
                </a:cubicBezTo>
                <a:cubicBezTo>
                  <a:pt x="20542" y="5509"/>
                  <a:pt x="20198" y="5488"/>
                  <a:pt x="19844" y="5432"/>
                </a:cubicBezTo>
                <a:cubicBezTo>
                  <a:pt x="19819" y="5432"/>
                  <a:pt x="19811" y="5432"/>
                  <a:pt x="19819" y="540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03200" y="1776240"/>
            <a:ext cx="777960" cy="36720"/>
          </a:xfrm>
          <a:custGeom>
            <a:avLst/>
            <a:gdLst/>
            <a:ahLst/>
            <a:rect l="l" t="t" r="r" b="b"/>
            <a:pathLst>
              <a:path w="2159" h="100">
                <a:moveTo>
                  <a:pt x="4093" y="4936"/>
                </a:moveTo>
                <a:cubicBezTo>
                  <a:pt x="4184" y="4936"/>
                  <a:pt x="4225" y="4936"/>
                  <a:pt x="4316" y="4936"/>
                </a:cubicBezTo>
                <a:cubicBezTo>
                  <a:pt x="4519" y="4936"/>
                  <a:pt x="4737" y="4926"/>
                  <a:pt x="4936" y="4961"/>
                </a:cubicBezTo>
                <a:cubicBezTo>
                  <a:pt x="5156" y="5000"/>
                  <a:pt x="5330" y="5035"/>
                  <a:pt x="5556" y="5035"/>
                </a:cubicBezTo>
                <a:cubicBezTo>
                  <a:pt x="5597" y="5035"/>
                  <a:pt x="5639" y="5035"/>
                  <a:pt x="5680" y="5035"/>
                </a:cubicBezTo>
                <a:cubicBezTo>
                  <a:pt x="5866" y="5035"/>
                  <a:pt x="5707" y="5035"/>
                  <a:pt x="5631" y="5035"/>
                </a:cubicBezTo>
                <a:cubicBezTo>
                  <a:pt x="4994" y="5035"/>
                  <a:pt x="4190" y="5035"/>
                  <a:pt x="3646" y="5035"/>
                </a:cubicBezTo>
                <a:cubicBezTo>
                  <a:pt x="3553" y="5035"/>
                  <a:pt x="3827" y="4999"/>
                  <a:pt x="3919" y="4986"/>
                </a:cubicBezTo>
                <a:cubicBezTo>
                  <a:pt x="3961" y="4986"/>
                  <a:pt x="3977" y="4994"/>
                  <a:pt x="3969" y="496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8280" y="2268360"/>
            <a:ext cx="9720" cy="36720"/>
          </a:xfrm>
          <a:custGeom>
            <a:avLst/>
            <a:gdLst/>
            <a:ahLst/>
            <a:rect l="l" t="t" r="r" b="b"/>
            <a:pathLst>
              <a:path w="26" h="101">
                <a:moveTo>
                  <a:pt x="3522" y="6400"/>
                </a:moveTo>
                <a:cubicBezTo>
                  <a:pt x="3530" y="6400"/>
                  <a:pt x="3539" y="6400"/>
                  <a:pt x="3547" y="6400"/>
                </a:cubicBezTo>
                <a:cubicBezTo>
                  <a:pt x="3547" y="6367"/>
                  <a:pt x="3547" y="6333"/>
                  <a:pt x="3547" y="63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68280" y="2259000"/>
            <a:ext cx="9720" cy="460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3522" y="6276"/>
                </a:moveTo>
                <a:cubicBezTo>
                  <a:pt x="3522" y="6327"/>
                  <a:pt x="3537" y="6329"/>
                  <a:pt x="3547" y="6350"/>
                </a:cubicBezTo>
                <a:cubicBezTo>
                  <a:pt x="3547" y="6375"/>
                  <a:pt x="3547" y="6383"/>
                  <a:pt x="3547" y="6400"/>
                </a:cubicBezTo>
                <a:cubicBezTo>
                  <a:pt x="3547" y="6367"/>
                  <a:pt x="3547" y="6333"/>
                  <a:pt x="3547" y="63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68280" y="2224080"/>
            <a:ext cx="1800" cy="61920"/>
          </a:xfrm>
          <a:custGeom>
            <a:avLst/>
            <a:gdLst/>
            <a:ahLst/>
            <a:rect l="l" t="t" r="r" b="b"/>
            <a:pathLst>
              <a:path w="1" h="175">
                <a:moveTo>
                  <a:pt x="3522" y="6176"/>
                </a:moveTo>
                <a:cubicBezTo>
                  <a:pt x="3522" y="6234"/>
                  <a:pt x="3522" y="6292"/>
                  <a:pt x="3522" y="63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ca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rs help the officers get to the destination quick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rs have as loud siren and flashing ligh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2232000" cy="24447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916360" y="4076640"/>
            <a:ext cx="2736720" cy="2448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3168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unifor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were uniforms so people can notice them when there walking down the footpa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986280" cy="2651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3816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dog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are for finding thiefs hiding in a dark place or if someone is near by who is wan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971640" y="4149720"/>
            <a:ext cx="2017800" cy="2421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3276720" y="4221000"/>
            <a:ext cx="3311280" cy="23320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6804000" y="3933720"/>
            <a:ext cx="21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Bye By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e bye everyone and I hope you enjoyed my sh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0:24:17Z</dcterms:created>
  <dc:creator>5e21</dc:creator>
  <dc:description/>
  <dc:language>en-US</dc:language>
  <cp:lastModifiedBy>5e21</cp:lastModifiedBy>
  <dcterms:modified xsi:type="dcterms:W3CDTF">2011-09-08T02:29:43Z</dcterms:modified>
  <cp:revision>5</cp:revision>
  <dc:subject/>
  <dc:title>                 Police</dc:title>
</cp:coreProperties>
</file>